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2E0-E1D6-47C3-B406-B1A4AD4C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4DE-408B-474D-8F84-98860847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FFD-3037-415D-8A45-A43E567B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EC1-4D15-45C0-9F98-01DA7738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B3BD-2DA7-4A30-B0FF-70B42967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08FB-A993-4941-AF5C-0A72909F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D6D9-7096-4C54-B276-3E4FCD1F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98E0-5FEF-4E4C-8CF4-C2EBCB8B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3E46-084B-4E5A-90E7-776E3BD7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935A-3F6F-4AB1-BD4C-5113D45B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0D8F-E397-48AB-B5F2-CFF871D8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84E-011F-4DEB-833A-C496972C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AE81-ED91-4157-A0F4-27DE6CD5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9BAF-6B4B-4418-B158-EA24ED9D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D42E-D462-453E-B9E5-F695632D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B4A7-5E2D-403B-A7BC-E7935DF6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D73D-AC9A-4A6D-BB5E-747E71D2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18C-6861-4F50-ACF1-605384BA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3CC-FF53-4828-B66D-9E8118F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057-B99C-44C7-B73E-B1F20EA1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5F1-32AE-4A5B-97B8-C09A4A1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5F9-108E-4F29-8051-966703C8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A44-5180-4A61-A72C-C99CBE6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C04-0585-4A17-87A6-6EBA994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5E06-FED5-41C5-BFA2-4A9F72A9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00D5-9F35-4FC6-8B6B-E68D02C8E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5832"/>
                </a:solidFill>
                <a:latin typeface="Bernard MT Condensed"/>
              </a:rPr>
              <a:t>Pacific Northwest</a:t>
            </a:r>
            <a:br>
              <a:rPr sz="5400"/>
            </a:br>
            <a:r>
              <a:rPr b="0" lang="en-US" sz="4400" spc="-1" strike="noStrike">
                <a:solidFill>
                  <a:srgbClr val="265832"/>
                </a:solidFill>
                <a:latin typeface="Bernard MT Condensed"/>
              </a:rPr>
              <a:t>Forest Frien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5086080"/>
            <a:ext cx="59436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5832"/>
                </a:solidFill>
                <a:latin typeface="Bernard MT Condensed"/>
              </a:rPr>
              <a:t>Created by Francesca Him, Katie Howell, Tyler Bayer, Jon Ollila, Morgan Carey and Brea No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tree.jpg"/>
          <p:cNvPicPr/>
          <p:nvPr/>
        </p:nvPicPr>
        <p:blipFill>
          <a:blip r:embed="rId1"/>
          <a:stretch/>
        </p:blipFill>
        <p:spPr>
          <a:xfrm>
            <a:off x="3505320" y="1828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recycle.jpg"/>
          <p:cNvPicPr/>
          <p:nvPr/>
        </p:nvPicPr>
        <p:blipFill>
          <a:blip r:embed="rId1"/>
          <a:stretch/>
        </p:blipFill>
        <p:spPr>
          <a:xfrm>
            <a:off x="6324480" y="1752480"/>
            <a:ext cx="2438640" cy="2422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c2b09"/>
                </a:solidFill>
                <a:latin typeface="Arial"/>
              </a:rPr>
              <a:t>Pacific Northwest Forest Friends-4</a:t>
            </a:r>
            <a:r>
              <a:rPr b="0" i="1" lang="en-US" sz="4400" spc="-1" strike="noStrike" baseline="30000">
                <a:solidFill>
                  <a:srgbClr val="4c2b09"/>
                </a:solidFill>
                <a:latin typeface="Arial"/>
              </a:rPr>
              <a:t>th</a:t>
            </a:r>
            <a:r>
              <a:rPr b="0" i="1" lang="en-US" sz="4400" spc="-1" strike="noStrike">
                <a:solidFill>
                  <a:srgbClr val="4c2b09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This unit will be used in a fourth grade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581280" y="4038480"/>
            <a:ext cx="48769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It is an interdisciplinary unit on forests that primarily addresses the social sciences, literacy and arts curricul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squirrel.jpg"/>
          <p:cNvPicPr/>
          <p:nvPr/>
        </p:nvPicPr>
        <p:blipFill>
          <a:blip r:embed="rId2"/>
          <a:stretch/>
        </p:blipFill>
        <p:spPr>
          <a:xfrm rot="18927000">
            <a:off x="1060560" y="4086360"/>
            <a:ext cx="23414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c2b09"/>
                </a:solidFill>
                <a:latin typeface="Century Gothic"/>
              </a:rPr>
              <a:t>Curriculum Framing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5832"/>
                </a:solidFill>
                <a:latin typeface="Century Gothic"/>
              </a:rPr>
              <a:t>Essential Question:</a:t>
            </a:r>
            <a:r>
              <a:rPr b="0" lang="en-US" sz="3200" spc="-1" strike="noStrike">
                <a:solidFill>
                  <a:srgbClr val="265832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-310320">
              <a:lnSpc>
                <a:spcPct val="90000"/>
              </a:lnSpc>
              <a:spcBef>
                <a:spcPts val="649"/>
              </a:spcBef>
              <a:buClr>
                <a:srgbClr val="265832"/>
              </a:buClr>
              <a:buFont typeface="Century Gothic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How can we respect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understand the eart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5832"/>
                </a:solidFill>
                <a:latin typeface="Century Gothic"/>
              </a:rPr>
              <a:t>Uni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-310320">
              <a:lnSpc>
                <a:spcPct val="90000"/>
              </a:lnSpc>
              <a:spcBef>
                <a:spcPts val="649"/>
              </a:spcBef>
              <a:buClr>
                <a:srgbClr val="265832"/>
              </a:buClr>
              <a:buFont typeface="Century Gothic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How are forests important to the earth and it’s peopl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265832"/>
              </a:buClr>
              <a:buFont typeface="Century Gothic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What are some things that we can do to save forests?</a:t>
            </a:r>
            <a:br>
              <a:rPr sz="2800"/>
            </a:b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kid rec.jpg"/>
          <p:cNvPicPr/>
          <p:nvPr/>
        </p:nvPicPr>
        <p:blipFill>
          <a:blip r:embed="rId1"/>
          <a:stretch/>
        </p:blipFill>
        <p:spPr>
          <a:xfrm>
            <a:off x="6324480" y="1751040"/>
            <a:ext cx="1828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c2b09"/>
                </a:solidFill>
                <a:latin typeface="Century Gothic"/>
              </a:rPr>
              <a:t>Oregon State Standa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5832"/>
                </a:solidFill>
                <a:latin typeface="Century Gothic"/>
              </a:rPr>
              <a:t>Fourth Grade Standards for Social Science, Art and Literac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El.04.RE.03: Listen to, read, and understand a wide variety of informational and narrative text, including classic and contemporary literature, poetry, magazines, newspapers, reference materials, and online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El.04.RE.09</a:t>
            </a:r>
            <a:r>
              <a:rPr b="1" lang="en-US" sz="1400" spc="-1" strike="noStrike">
                <a:solidFill>
                  <a:srgbClr val="265832"/>
                </a:solidFill>
                <a:latin typeface="Century Gothic"/>
              </a:rPr>
              <a:t>: </a:t>
            </a: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Understand, learn, and use new vocabulary that is introduced and taught directly through informational text, literary text, and instruction across the subject are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AR.05.HC.03: Describe how works of art from various historic periods reflect the artist's environment, society and cul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AR.05.CP.03: Create, present and/or perform a work of art and explain how the use of essential elements and organizational principles shapes an idea, mood or feeling found in the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SS.05.GE.03.03: Locate, identify, and know the significance of major mountains, rivers, and land regions of Oreg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SS.05.GE.07: Understand how physical environments are affected by human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38"/>
          <p:cNvSpPr/>
          <p:nvPr/>
        </p:nvSpPr>
        <p:spPr>
          <a:xfrm>
            <a:off x="86832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39"/>
          <p:cNvSpPr/>
          <p:nvPr/>
        </p:nvSpPr>
        <p:spPr>
          <a:xfrm>
            <a:off x="1676520" y="1981080"/>
            <a:ext cx="6522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b09"/>
                </a:solidFill>
                <a:latin typeface="Century Gothic"/>
              </a:rPr>
              <a:t>Learning Ob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239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1066680" y="1600200"/>
            <a:ext cx="777240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5832"/>
                </a:solidFill>
                <a:latin typeface="Century Gothic"/>
              </a:rPr>
              <a:t>The students wi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What is a fores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What plants are in our for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What animals are in our for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What do we get from fores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How can we respect and preserve our     </a:t>
            </a: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fores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2" descr="bear.jpg"/>
          <p:cNvPicPr/>
          <p:nvPr/>
        </p:nvPicPr>
        <p:blipFill>
          <a:blip r:embed="rId1"/>
          <a:stretch/>
        </p:blipFill>
        <p:spPr>
          <a:xfrm>
            <a:off x="3352680" y="4572000"/>
            <a:ext cx="3516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23:37:16Z</dcterms:created>
  <dc:creator>ICT User</dc:creator>
  <dc:description/>
  <dc:language>en-US</dc:language>
  <cp:lastModifiedBy>chandany</cp:lastModifiedBy>
  <dcterms:modified xsi:type="dcterms:W3CDTF">2009-08-03T18:34:51Z</dcterms:modified>
  <cp:revision>95</cp:revision>
  <dc:subject/>
  <dc:title>Computers and My Kindergartners</dc:title>
</cp:coreProperties>
</file>